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1E999-5B3C-48B8-8CDC-9E6B2AE94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CA222-6EA0-4B47-9F0C-AF3FEF403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6F134-630F-445E-8AF3-7A72C74E3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305B6-8FED-4D9E-B43E-DEE511F5D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EF900-D4EA-4483-B350-839CD8E04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AB4BD-CBBF-468B-A0EE-D45C197EE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D08CB-BA5A-432F-AF8D-E8C05E56D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E8C79-461E-45D2-9E8C-529DF5FBC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ABA18-4588-4CB4-A505-574991148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43C63-C6B5-468F-B0FB-D24822CD6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DCD91-E808-4922-B507-2E2C836BB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3BD05-1029-48E4-B43A-FF632015A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831A0-B1E3-4CE7-AF19-98D846C56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43593-0129-4B19-9924-60A1D96B7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85643-132B-4546-9E66-B22C73F1A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509C5-95F9-439F-9AB7-1210007E3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D44A3-FEA3-4C1F-AA17-47B5E7D83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B881D-3423-4CA0-AD33-0F313D2DD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05EB1-B4B9-4EB3-A82D-6E0D183AE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D0A79-F2DD-4394-A409-131AAF428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A1137-0B2A-4CBB-B523-64B3E3A57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81C88-DB74-49BB-A3B5-94D07584E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E48B8-C359-4992-994D-F23EC8235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0F273-5F45-40D2-BAD2-D92A0AF5E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39920"/>
                <a:gd name="textAreaBottom" fmla="*/ 2240280 h 22399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029200"/>
                <a:gd name="textAreaBottom" fmla="*/ 5029560 h 5029200"/>
              </a:gdLst>
              <a:ahLst/>
              <a:rect l="textAreaLeft" t="textAreaTop" r="textAreaRight" b="textAreaBottom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03560"/>
                <a:gd name="textAreaBottom" fmla="*/ 2203920 h 220356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>
                <a:gd name="textAreaLeft" fmla="*/ 0 w 7313760"/>
                <a:gd name="textAreaRight" fmla="*/ 7314120 w 73137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833560"/>
                <a:gd name="textAreaBottom" fmla="*/ 2833920 h 283356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>
                <a:gd name="textAreaLeft" fmla="*/ 0 w 4570560"/>
                <a:gd name="textAreaRight" fmla="*/ 4570920 w 45705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A054A-3BA3-43BD-B516-84C273EF16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105520"/>
                <a:gd name="textAreaBottom" fmla="*/ 5105880 h 5105520"/>
              </a:gdLst>
              <a:ahLst/>
              <a:rect l="textAreaLeft" t="textAreaTop" r="textAreaRight" b="textAreaBottom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3048120"/>
                <a:gd name="textAreaBottom" fmla="*/ 3048480 h 30481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>
                <a:gd name="textAreaLeft" fmla="*/ 0 w 5484960"/>
                <a:gd name="textAreaRight" fmla="*/ 5485320 w 54849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>
                <a:gd name="textAreaLeft" fmla="*/ 0 w 7769520"/>
                <a:gd name="textAreaRight" fmla="*/ 7769880 w 776952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3108240"/>
                <a:gd name="textAreaBottom" fmla="*/ 3108600 h 31082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5119920"/>
                <a:gd name="textAreaBottom" fmla="*/ 5120280 h 511992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0EE34-9269-491B-B32A-67A2261D788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mates of the Earth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Weather vs. Climat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Weathe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s the condition of the atmosphere in one place during a limited amount of ti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y to day condi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limat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s the patterns of weather that an area typically experiences over a long period of ti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 area is known for having these particular pattern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ainy, wet Seattle vs. dry desert of Phoeni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arth’s tilt affects temperature and therefore weather and clim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xi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– the imaginary line running from the North Pole to the South Po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tilt of the axis changes the amount of sunlight Earth receiv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Temperatur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= the measure of how hot or cold it 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cales for measuring temperature are Fahrenheit and Celci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 the Earth to complete a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evolutio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(a trip around the sun) it takes one year (365 day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5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b7"/>
                </a:solidFill>
                <a:latin typeface="Arial Black"/>
              </a:rPr>
              <a:t>Equinox vs. Solstice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Equinox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mean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qual night” 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en both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misphere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ceive equal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mounts of energ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Solstic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maximu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ilt toward the su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the longest day of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unlight in the North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misphere or Souther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mispher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Picture 7" descr="seasonalvariations"/>
          <p:cNvPicPr/>
          <p:nvPr/>
        </p:nvPicPr>
        <p:blipFill>
          <a:blip r:embed="rId1"/>
          <a:stretch/>
        </p:blipFill>
        <p:spPr>
          <a:xfrm>
            <a:off x="3505320" y="1676520"/>
            <a:ext cx="5410080" cy="447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" dur="5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" dur="5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500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" dur="500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" dur="500"/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" dur="500"/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" dur="500"/>
                                        <p:tgtEl>
                                          <p:spTgt spid="1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10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" dur="500"/>
                                        <p:tgtEl>
                                          <p:spTgt spid="10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Latitude and Climat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60° N to 90° N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0° N and 60° N in Northern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Hemisphe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0° N and 30° S Low latitud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0° S and 60° S in Southern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Hemisphe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60° S to 90° 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Picture 5" descr="Climate-zones"/>
          <p:cNvPicPr/>
          <p:nvPr/>
        </p:nvPicPr>
        <p:blipFill>
          <a:blip r:embed="rId1"/>
          <a:stretch/>
        </p:blipFill>
        <p:spPr>
          <a:xfrm>
            <a:off x="380880" y="2152800"/>
            <a:ext cx="6096240" cy="371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Latitude and Elevation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152280" y="1447920"/>
          <a:ext cx="8686800" cy="5303880"/>
        </p:xfrm>
        <a:graphic>
          <a:graphicData uri="http://schemas.openxmlformats.org/drawingml/2006/table">
            <a:tbl>
              <a:tblPr/>
              <a:tblGrid>
                <a:gridCol w="2171880"/>
                <a:gridCol w="2171520"/>
                <a:gridCol w="2171880"/>
                <a:gridCol w="217152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levatio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atitude &amp; Longitud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verage Temperatur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to, Ecuado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,223 ft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2,811 m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°09’ 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8 °29’ W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 °F (14 °C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irobi, Keny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,327 f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1,623 m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 °19’ 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 °55’ 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 ° F (19 °C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ujumbura, Burundi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568 f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782m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 °19’ 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 °19’ 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7 °F (25 °C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naus, Brazi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6 ft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84 m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 °09’ 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 °59’ W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1 °F (27 °C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lluride, Colorad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,760 ft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2,670 m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 °57’ 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7 °49’ W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 °F (3 °C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205740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5T02:34:38Z</dcterms:created>
  <dc:creator>Lauren Amorin</dc:creator>
  <dc:description/>
  <dc:language>en-US</dc:language>
  <cp:lastModifiedBy>Administrator</cp:lastModifiedBy>
  <dcterms:modified xsi:type="dcterms:W3CDTF">2013-02-05T05:33:01Z</dcterms:modified>
  <cp:revision>3</cp:revision>
  <dc:subject/>
  <dc:title>Climates of the Earth</dc:title>
</cp:coreProperties>
</file>